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A397-DCBA-4C13-84B2-C464677C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C89-990E-4E4C-B60D-EA294D3EC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687-852A-487A-9A94-FD44FD6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B90-0AB5-4478-9897-A0902DA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BE4-FDEF-46B9-B04A-46320559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E80-4F6B-4651-BD58-B837B6B3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5773-4AC3-47E4-9EF2-11CCDF06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482E-CC1B-44BE-8F76-4D0BC08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9DA-98F8-4148-8A7B-799927B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9189-D7F8-4802-BE3D-BF57A69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F7E-B021-41E6-A0DB-8778DAA4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FF66-91DF-4471-B941-8C1277B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E2BC-CA63-4F8C-ACCD-C03272BD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0C1-29A3-49EF-91CD-C946D0B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18C1-AA47-4485-ACAD-27BEE68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809C-0CBB-4CFD-BE50-DDD5817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5E7A-7CC1-4345-B12E-F7717C5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ECFA-5D12-4AC8-9313-DD191267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EA2-FC98-419F-BCA1-B75B5023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CC5-55CB-4BC0-A557-52437793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B44-DAE6-49F7-BD05-1A7D7F6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26D-5AE9-4F4C-9465-E941115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696-D547-4B35-8DEC-31F40A56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40C-C5B7-4CD6-A0D8-09D006A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373-A7C8-4001-BA71-D589113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DDF-BC4F-4FAA-96D9-66AB3CB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1A4-2A86-437D-A375-5C5E1E705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690-8457-45C6-8A67-E98B71A73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riting pro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explain your answer in complete sent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fundamental difference between the Virginia and New Jersey Plan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556000" y="2971800"/>
            <a:ext cx="403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3T12:51:38Z</dcterms:modified>
  <cp:revision>123</cp:revision>
  <dc:subject/>
  <dc:title>D/O: TO EXPLAIN AND IDENTIFY PROBLEMS OF ECONOMICS</dc:title>
</cp:coreProperties>
</file>